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BDB1-D27E-45F2-8A16-3E10A634F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4600-34CF-460D-935A-789AD523F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7A3A-5F96-474B-A8FF-8C77A59EE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E1AD-6231-490C-80CD-89BD04207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105F-67FF-4518-8477-930C1F6DE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815B-8063-43C5-AB6F-0706984E1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3C4F-538B-47E9-813D-71AE547B1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8EB6-6E7C-4D76-ADA9-0E807D0FE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C808-2824-433F-9BC1-83D7E20DE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EA28-DD86-44E3-BAB9-9E0395386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8348-BC6F-46B7-81AB-C598651AE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88D5-9E95-48A3-8A18-F7CFE9993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399E9-4101-4D12-9ABF-F2F5EB57895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NUTRIENTES Y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nutrientes y 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7"/>
          <p:cNvSpPr/>
          <p:nvPr/>
        </p:nvSpPr>
        <p:spPr>
          <a:xfrm>
            <a:off x="971640" y="1628640"/>
            <a:ext cx="720072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seres vivos almacenan moléculas energéticas en sus células, como los hidratos de carbono, para usarlas cuando las necesi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cha energía se halla en los enlaces de estas grandes molécu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6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nutrientes y 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" name="Picture 8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9"/>
          <p:cNvSpPr/>
          <p:nvPr/>
        </p:nvSpPr>
        <p:spPr>
          <a:xfrm>
            <a:off x="971640" y="1197000"/>
            <a:ext cx="7200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oléculas de los nutrientes pueden romperse liberando la energía almacenada en sus enl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energía liberada es empleada por los seres vivos para llevar a cabo sus funciones vit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5559480" y="4059360"/>
            <a:ext cx="968400" cy="961920"/>
            <a:chOff x="5559480" y="4059360"/>
            <a:chExt cx="968400" cy="961920"/>
          </a:xfrm>
        </p:grpSpPr>
        <p:pic>
          <p:nvPicPr>
            <p:cNvPr id="63" name="Picture 17" descr=""/>
            <p:cNvPicPr/>
            <p:nvPr/>
          </p:nvPicPr>
          <p:blipFill>
            <a:blip r:embed="rId2"/>
            <a:stretch/>
          </p:blipFill>
          <p:spPr>
            <a:xfrm>
              <a:off x="5559480" y="4059360"/>
              <a:ext cx="968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8"/>
            <p:cNvSpPr/>
            <p:nvPr/>
          </p:nvSpPr>
          <p:spPr>
            <a:xfrm>
              <a:off x="5716440" y="421488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19"/>
          <p:cNvGrpSpPr/>
          <p:nvPr/>
        </p:nvGrpSpPr>
        <p:grpSpPr>
          <a:xfrm>
            <a:off x="7364520" y="4059360"/>
            <a:ext cx="1035000" cy="961920"/>
            <a:chOff x="7364520" y="4059360"/>
            <a:chExt cx="1035000" cy="961920"/>
          </a:xfrm>
        </p:grpSpPr>
        <p:pic>
          <p:nvPicPr>
            <p:cNvPr id="66" name="Picture 20" descr=""/>
            <p:cNvPicPr/>
            <p:nvPr/>
          </p:nvPicPr>
          <p:blipFill>
            <a:blip r:embed="rId3"/>
            <a:stretch/>
          </p:blipFill>
          <p:spPr>
            <a:xfrm>
              <a:off x="7364520" y="4059360"/>
              <a:ext cx="1035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1"/>
            <p:cNvSpPr/>
            <p:nvPr/>
          </p:nvSpPr>
          <p:spPr>
            <a:xfrm>
              <a:off x="7542360" y="4227480"/>
              <a:ext cx="6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AutoShape 22"/>
          <p:cNvSpPr/>
          <p:nvPr/>
        </p:nvSpPr>
        <p:spPr>
          <a:xfrm>
            <a:off x="3492360" y="4365720"/>
            <a:ext cx="1871640" cy="287280"/>
          </a:xfrm>
          <a:prstGeom prst="rightArrow">
            <a:avLst>
              <a:gd name="adj1" fmla="val 50000"/>
              <a:gd name="adj2" fmla="val 5013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3780000" y="3860640"/>
            <a:ext cx="1439640" cy="576360"/>
          </a:xfrm>
          <a:custGeom>
            <a:avLst/>
            <a:gdLst>
              <a:gd name="textAreaLeft" fmla="*/ 306000 w 1439640"/>
              <a:gd name="textAreaRight" fmla="*/ 1062000 w 143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31 Grupo"/>
          <p:cNvGrpSpPr/>
          <p:nvPr/>
        </p:nvGrpSpPr>
        <p:grpSpPr>
          <a:xfrm>
            <a:off x="4140360" y="3284640"/>
            <a:ext cx="1726920" cy="649080"/>
            <a:chOff x="4140360" y="3284640"/>
            <a:chExt cx="1726920" cy="649080"/>
          </a:xfrm>
        </p:grpSpPr>
        <p:sp>
          <p:nvSpPr>
            <p:cNvPr id="71" name="Freeform 1"/>
            <p:cNvSpPr/>
            <p:nvPr/>
          </p:nvSpPr>
          <p:spPr>
            <a:xfrm>
              <a:off x="4140360" y="3284640"/>
              <a:ext cx="1726920" cy="649080"/>
            </a:xfrm>
            <a:custGeom>
              <a:avLst/>
              <a:gdLst>
                <a:gd name="textAreaLeft" fmla="*/ 238680 w 1726920"/>
                <a:gd name="textAreaRight" fmla="*/ 1488240 w 1726920"/>
                <a:gd name="textAreaTop" fmla="*/ 162000 h 649080"/>
                <a:gd name="textAreaBottom" fmla="*/ 487080 h 649080"/>
              </a:gdLst>
              <a:ahLst/>
              <a:rect l="textAreaLeft" t="textAreaTop" r="textAreaRight" b="textAreaBottom"/>
              <a:pathLst>
                <a:path w="1727200" h="649287">
                  <a:moveTo>
                    <a:pt x="-1" y="224322"/>
                  </a:moveTo>
                  <a:lnTo>
                    <a:pt x="238685" y="162319"/>
                  </a:lnTo>
                  <a:lnTo>
                    <a:pt x="329863" y="62000"/>
                  </a:lnTo>
                  <a:lnTo>
                    <a:pt x="624902" y="61998"/>
                  </a:lnTo>
                  <a:lnTo>
                    <a:pt x="863600" y="0"/>
                  </a:lnTo>
                  <a:lnTo>
                    <a:pt x="1102298" y="61998"/>
                  </a:lnTo>
                  <a:lnTo>
                    <a:pt x="1397337" y="62000"/>
                  </a:lnTo>
                  <a:lnTo>
                    <a:pt x="1488515" y="162319"/>
                  </a:lnTo>
                  <a:lnTo>
                    <a:pt x="1727201" y="224322"/>
                  </a:lnTo>
                  <a:lnTo>
                    <a:pt x="1636034" y="324644"/>
                  </a:lnTo>
                  <a:lnTo>
                    <a:pt x="1727201" y="424965"/>
                  </a:lnTo>
                  <a:lnTo>
                    <a:pt x="1488515" y="486968"/>
                  </a:lnTo>
                  <a:lnTo>
                    <a:pt x="1397337" y="587287"/>
                  </a:lnTo>
                  <a:lnTo>
                    <a:pt x="1102298" y="587289"/>
                  </a:lnTo>
                  <a:lnTo>
                    <a:pt x="863600" y="649287"/>
                  </a:lnTo>
                  <a:lnTo>
                    <a:pt x="624902" y="587289"/>
                  </a:lnTo>
                  <a:lnTo>
                    <a:pt x="329863" y="587287"/>
                  </a:lnTo>
                  <a:lnTo>
                    <a:pt x="238685" y="486968"/>
                  </a:lnTo>
                  <a:lnTo>
                    <a:pt x="-1" y="424965"/>
                  </a:lnTo>
                  <a:lnTo>
                    <a:pt x="91166" y="324644"/>
                  </a:lnTo>
                  <a:lnTo>
                    <a:pt x="-1" y="22432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4"/>
            <p:cNvSpPr/>
            <p:nvPr/>
          </p:nvSpPr>
          <p:spPr>
            <a:xfrm>
              <a:off x="4356000" y="3357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ffc000"/>
                  </a:solidFill>
                  <a:latin typeface="Arial"/>
                </a:rPr>
                <a:t>Energí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30 Grupo"/>
          <p:cNvGrpSpPr/>
          <p:nvPr/>
        </p:nvGrpSpPr>
        <p:grpSpPr>
          <a:xfrm>
            <a:off x="884160" y="4059360"/>
            <a:ext cx="2333880" cy="1362960"/>
            <a:chOff x="884160" y="4059360"/>
            <a:chExt cx="2333880" cy="1362960"/>
          </a:xfrm>
        </p:grpSpPr>
        <p:pic>
          <p:nvPicPr>
            <p:cNvPr id="74" name="Picture 2" descr=""/>
            <p:cNvPicPr/>
            <p:nvPr/>
          </p:nvPicPr>
          <p:blipFill>
            <a:blip r:embed="rId4"/>
            <a:stretch/>
          </p:blipFill>
          <p:spPr>
            <a:xfrm>
              <a:off x="1384200" y="4505400"/>
              <a:ext cx="125604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10"/>
            <p:cNvGrpSpPr/>
            <p:nvPr/>
          </p:nvGrpSpPr>
          <p:grpSpPr>
            <a:xfrm>
              <a:off x="884160" y="4059360"/>
              <a:ext cx="961920" cy="961920"/>
              <a:chOff x="884160" y="4059360"/>
              <a:chExt cx="961920" cy="961920"/>
            </a:xfrm>
          </p:grpSpPr>
          <p:pic>
            <p:nvPicPr>
              <p:cNvPr id="76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84160" y="4059360"/>
                <a:ext cx="96192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Text Box 12"/>
              <p:cNvSpPr/>
              <p:nvPr/>
            </p:nvSpPr>
            <p:spPr>
              <a:xfrm>
                <a:off x="1036440" y="4214880"/>
                <a:ext cx="65988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13"/>
            <p:cNvGrpSpPr/>
            <p:nvPr/>
          </p:nvGrpSpPr>
          <p:grpSpPr>
            <a:xfrm>
              <a:off x="2176560" y="4059360"/>
              <a:ext cx="1041480" cy="961920"/>
              <a:chOff x="2176560" y="4059360"/>
              <a:chExt cx="1041480" cy="961920"/>
            </a:xfrm>
          </p:grpSpPr>
          <p:pic>
            <p:nvPicPr>
              <p:cNvPr id="79" name="Pictur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2176560" y="4059360"/>
                <a:ext cx="104148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 Box 15"/>
              <p:cNvSpPr/>
              <p:nvPr/>
            </p:nvSpPr>
            <p:spPr>
              <a:xfrm>
                <a:off x="2357280" y="4227480"/>
                <a:ext cx="68292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25"/>
            <p:cNvSpPr/>
            <p:nvPr/>
          </p:nvSpPr>
          <p:spPr>
            <a:xfrm>
              <a:off x="971280" y="5085000"/>
              <a:ext cx="22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8700"/>
                  </a:solidFill>
                  <a:latin typeface="Arial"/>
                </a:rPr>
                <a:t>Compuesto orgáni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Text Box 26"/>
          <p:cNvSpPr/>
          <p:nvPr/>
        </p:nvSpPr>
        <p:spPr>
          <a:xfrm>
            <a:off x="529272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716436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32 Grupo"/>
          <p:cNvGrpSpPr/>
          <p:nvPr/>
        </p:nvGrpSpPr>
        <p:grpSpPr>
          <a:xfrm>
            <a:off x="6804000" y="4296960"/>
            <a:ext cx="360360" cy="360360"/>
            <a:chOff x="6804000" y="4296960"/>
            <a:chExt cx="360360" cy="360360"/>
          </a:xfrm>
        </p:grpSpPr>
        <p:sp>
          <p:nvSpPr>
            <p:cNvPr id="85" name="AutoShape 28"/>
            <p:cNvSpPr/>
            <p:nvPr/>
          </p:nvSpPr>
          <p:spPr>
            <a:xfrm>
              <a:off x="6804000" y="4437000"/>
              <a:ext cx="360360" cy="7128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6803640" y="4441320"/>
              <a:ext cx="360360" cy="7128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8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nutrientes y la energía quím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icture 8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9"/>
          <p:cNvSpPr/>
          <p:nvPr/>
        </p:nvSpPr>
        <p:spPr>
          <a:xfrm>
            <a:off x="971640" y="1217520"/>
            <a:ext cx="720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otro lado, en los organismos, las moléculas simples pueden unirse y formar otras más complejas. Esto supone un gasto de ener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energía queda almacenada en los enlaces de la molécula form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35 Grupo"/>
          <p:cNvGrpSpPr/>
          <p:nvPr/>
        </p:nvGrpSpPr>
        <p:grpSpPr>
          <a:xfrm>
            <a:off x="5992920" y="4059360"/>
            <a:ext cx="2332080" cy="961920"/>
            <a:chOff x="5992920" y="4059360"/>
            <a:chExt cx="2332080" cy="961920"/>
          </a:xfrm>
        </p:grpSpPr>
        <p:pic>
          <p:nvPicPr>
            <p:cNvPr id="95" name="Picture 2" descr=""/>
            <p:cNvPicPr/>
            <p:nvPr/>
          </p:nvPicPr>
          <p:blipFill>
            <a:blip r:embed="rId2"/>
            <a:stretch/>
          </p:blipFill>
          <p:spPr>
            <a:xfrm>
              <a:off x="6497640" y="4505400"/>
              <a:ext cx="125568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Group 10"/>
            <p:cNvGrpSpPr/>
            <p:nvPr/>
          </p:nvGrpSpPr>
          <p:grpSpPr>
            <a:xfrm>
              <a:off x="5992920" y="4059360"/>
              <a:ext cx="966600" cy="961920"/>
              <a:chOff x="5992920" y="4059360"/>
              <a:chExt cx="966600" cy="961920"/>
            </a:xfrm>
          </p:grpSpPr>
          <p:pic>
            <p:nvPicPr>
              <p:cNvPr id="9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92920" y="4059360"/>
                <a:ext cx="96660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12"/>
              <p:cNvSpPr/>
              <p:nvPr/>
            </p:nvSpPr>
            <p:spPr>
              <a:xfrm>
                <a:off x="6149880" y="4214880"/>
                <a:ext cx="66060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7291440" y="4059360"/>
              <a:ext cx="1033560" cy="961920"/>
              <a:chOff x="7291440" y="4059360"/>
              <a:chExt cx="1033560" cy="961920"/>
            </a:xfrm>
          </p:grpSpPr>
          <p:pic>
            <p:nvPicPr>
              <p:cNvPr id="10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291440" y="4059360"/>
                <a:ext cx="103356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5"/>
              <p:cNvSpPr/>
              <p:nvPr/>
            </p:nvSpPr>
            <p:spPr>
              <a:xfrm>
                <a:off x="7470720" y="4227480"/>
                <a:ext cx="6825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950760" y="4059360"/>
            <a:ext cx="968400" cy="961920"/>
            <a:chOff x="950760" y="4059360"/>
            <a:chExt cx="968400" cy="961920"/>
          </a:xfrm>
        </p:grpSpPr>
        <p:pic>
          <p:nvPicPr>
            <p:cNvPr id="103" name="Picture 17" descr=""/>
            <p:cNvPicPr/>
            <p:nvPr/>
          </p:nvPicPr>
          <p:blipFill>
            <a:blip r:embed="rId5"/>
            <a:stretch/>
          </p:blipFill>
          <p:spPr>
            <a:xfrm>
              <a:off x="950760" y="4059360"/>
              <a:ext cx="968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8"/>
            <p:cNvSpPr/>
            <p:nvPr/>
          </p:nvSpPr>
          <p:spPr>
            <a:xfrm>
              <a:off x="1108080" y="421488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19"/>
          <p:cNvGrpSpPr/>
          <p:nvPr/>
        </p:nvGrpSpPr>
        <p:grpSpPr>
          <a:xfrm>
            <a:off x="2755800" y="4059360"/>
            <a:ext cx="1033560" cy="961920"/>
            <a:chOff x="2755800" y="4059360"/>
            <a:chExt cx="1033560" cy="961920"/>
          </a:xfrm>
        </p:grpSpPr>
        <p:pic>
          <p:nvPicPr>
            <p:cNvPr id="106" name="Picture 20" descr=""/>
            <p:cNvPicPr/>
            <p:nvPr/>
          </p:nvPicPr>
          <p:blipFill>
            <a:blip r:embed="rId6"/>
            <a:stretch/>
          </p:blipFill>
          <p:spPr>
            <a:xfrm>
              <a:off x="2755800" y="4059360"/>
              <a:ext cx="10335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1"/>
            <p:cNvSpPr/>
            <p:nvPr/>
          </p:nvSpPr>
          <p:spPr>
            <a:xfrm>
              <a:off x="2933640" y="4227480"/>
              <a:ext cx="6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AutoShape 22"/>
          <p:cNvSpPr/>
          <p:nvPr/>
        </p:nvSpPr>
        <p:spPr>
          <a:xfrm>
            <a:off x="3924360" y="4365720"/>
            <a:ext cx="1871640" cy="287280"/>
          </a:xfrm>
          <a:prstGeom prst="rightArrow">
            <a:avLst>
              <a:gd name="adj1" fmla="val 50000"/>
              <a:gd name="adj2" fmla="val 5013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34 Grupo"/>
          <p:cNvGrpSpPr/>
          <p:nvPr/>
        </p:nvGrpSpPr>
        <p:grpSpPr>
          <a:xfrm>
            <a:off x="3419640" y="3213000"/>
            <a:ext cx="1728720" cy="647640"/>
            <a:chOff x="3419640" y="3213000"/>
            <a:chExt cx="1728720" cy="647640"/>
          </a:xfrm>
        </p:grpSpPr>
        <p:sp>
          <p:nvSpPr>
            <p:cNvPr id="110" name="Freeform 1"/>
            <p:cNvSpPr/>
            <p:nvPr/>
          </p:nvSpPr>
          <p:spPr>
            <a:xfrm>
              <a:off x="3419640" y="3213000"/>
              <a:ext cx="1728720" cy="647640"/>
            </a:xfrm>
            <a:custGeom>
              <a:avLst/>
              <a:gdLst>
                <a:gd name="textAreaLeft" fmla="*/ 238680 w 1728720"/>
                <a:gd name="textAreaRight" fmla="*/ 1490040 w 1728720"/>
                <a:gd name="textAreaTop" fmla="*/ 161640 h 647640"/>
                <a:gd name="textAreaBottom" fmla="*/ 486000 h 647640"/>
              </a:gdLst>
              <a:ahLst/>
              <a:rect l="textAreaLeft" t="textAreaTop" r="textAreaRight" b="textAreaBottom"/>
              <a:pathLst>
                <a:path w="1728788" h="647700">
                  <a:moveTo>
                    <a:pt x="-1" y="223774"/>
                  </a:moveTo>
                  <a:lnTo>
                    <a:pt x="238905" y="161922"/>
                  </a:lnTo>
                  <a:lnTo>
                    <a:pt x="330166" y="61849"/>
                  </a:lnTo>
                  <a:lnTo>
                    <a:pt x="625477" y="61846"/>
                  </a:lnTo>
                  <a:lnTo>
                    <a:pt x="864394" y="0"/>
                  </a:lnTo>
                  <a:lnTo>
                    <a:pt x="1103311" y="61846"/>
                  </a:lnTo>
                  <a:lnTo>
                    <a:pt x="1398622" y="61849"/>
                  </a:lnTo>
                  <a:lnTo>
                    <a:pt x="1489883" y="161922"/>
                  </a:lnTo>
                  <a:lnTo>
                    <a:pt x="1728789" y="223774"/>
                  </a:lnTo>
                  <a:lnTo>
                    <a:pt x="1637538" y="323850"/>
                  </a:lnTo>
                  <a:lnTo>
                    <a:pt x="1728789" y="423926"/>
                  </a:lnTo>
                  <a:lnTo>
                    <a:pt x="1489883" y="485778"/>
                  </a:lnTo>
                  <a:lnTo>
                    <a:pt x="1398622" y="585851"/>
                  </a:lnTo>
                  <a:lnTo>
                    <a:pt x="1103311" y="585854"/>
                  </a:lnTo>
                  <a:lnTo>
                    <a:pt x="864394" y="647700"/>
                  </a:lnTo>
                  <a:lnTo>
                    <a:pt x="625477" y="585854"/>
                  </a:lnTo>
                  <a:lnTo>
                    <a:pt x="330166" y="585851"/>
                  </a:lnTo>
                  <a:lnTo>
                    <a:pt x="238905" y="485778"/>
                  </a:lnTo>
                  <a:lnTo>
                    <a:pt x="-1" y="423926"/>
                  </a:lnTo>
                  <a:lnTo>
                    <a:pt x="91250" y="323850"/>
                  </a:lnTo>
                  <a:lnTo>
                    <a:pt x="-1" y="22377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3635280" y="328428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400" spc="-1" strike="noStrike">
                  <a:solidFill>
                    <a:srgbClr val="ffc000"/>
                  </a:solidFill>
                  <a:latin typeface="Arial"/>
                </a:rPr>
                <a:t>Energí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Text Box 24"/>
          <p:cNvSpPr/>
          <p:nvPr/>
        </p:nvSpPr>
        <p:spPr>
          <a:xfrm>
            <a:off x="6084720" y="508464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orgá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8436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556000" y="508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ompuesto inorgánico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27"/>
          <p:cNvGrpSpPr/>
          <p:nvPr/>
        </p:nvGrpSpPr>
        <p:grpSpPr>
          <a:xfrm>
            <a:off x="4322880" y="3906720"/>
            <a:ext cx="649080" cy="560520"/>
            <a:chOff x="4322880" y="3906720"/>
            <a:chExt cx="649080" cy="560520"/>
          </a:xfrm>
        </p:grpSpPr>
        <p:pic>
          <p:nvPicPr>
            <p:cNvPr id="116" name="Picture 28" descr=""/>
            <p:cNvPicPr/>
            <p:nvPr/>
          </p:nvPicPr>
          <p:blipFill>
            <a:blip r:embed="rId7"/>
            <a:stretch/>
          </p:blipFill>
          <p:spPr>
            <a:xfrm>
              <a:off x="4322880" y="3906720"/>
              <a:ext cx="6490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9"/>
            <p:cNvSpPr/>
            <p:nvPr/>
          </p:nvSpPr>
          <p:spPr>
            <a:xfrm>
              <a:off x="4589640" y="4106880"/>
              <a:ext cx="1364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33 Grupo"/>
          <p:cNvGrpSpPr/>
          <p:nvPr/>
        </p:nvGrpSpPr>
        <p:grpSpPr>
          <a:xfrm>
            <a:off x="2124000" y="4365720"/>
            <a:ext cx="360360" cy="358560"/>
            <a:chOff x="2124000" y="4365720"/>
            <a:chExt cx="360360" cy="358560"/>
          </a:xfrm>
        </p:grpSpPr>
        <p:sp>
          <p:nvSpPr>
            <p:cNvPr id="119" name="AutoShape 30"/>
            <p:cNvSpPr/>
            <p:nvPr/>
          </p:nvSpPr>
          <p:spPr>
            <a:xfrm>
              <a:off x="2124000" y="4508640"/>
              <a:ext cx="360360" cy="7272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AutoShape 31"/>
            <p:cNvSpPr/>
            <p:nvPr/>
          </p:nvSpPr>
          <p:spPr>
            <a:xfrm rot="16200000">
              <a:off x="2124720" y="4509360"/>
              <a:ext cx="358560" cy="71280"/>
            </a:xfrm>
            <a:prstGeom prst="flowChartProcess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7:10Z</dcterms:modified>
  <cp:revision>14</cp:revision>
  <dc:subject/>
  <dc:title>Presentación de PowerPoint</dc:title>
</cp:coreProperties>
</file>